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unti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soft.wav" ContentType="audio/x-wav"/>
  <Override PartName="/ppt/media/image6.jpeg" ContentType="image/jpeg"/>
  <Override PartName="/ppt/media/applause.wav" ContentType="audio/x-wav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wallewa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AF0-9BC7-4ACD-806D-2D68A865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440-51DF-4880-975B-9C714E29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400-18BA-4903-B705-DDBA9912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7BE-EF38-4366-91F8-08117992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063F-59F7-4A6C-B9F3-D61CB39A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2CD6-6C09-45C2-AEFE-E46C471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DCF9-84A9-4B55-B4EE-D3E54DF5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41A4-868B-4F2A-86F8-F77ADF88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EEBC-387E-409C-8B7F-EFFC1C9F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2DCC-1F70-4088-BFB5-45562386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0D04-704C-4434-B0C8-0598C7F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028-7F84-45DD-8B9F-AA564839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D0B0-7182-4B73-8CA3-B087056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7805-C2A8-469C-A6B2-9CE042AD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97E3-F89D-4A60-9A40-236A9B5B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035F-CBFF-4B03-8BA6-82C68A89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8108-59EC-49B9-A5D1-2A2EB496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993-B8F3-4F35-850C-14FC57C0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9A6-CB0A-4730-ADE9-D060027B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07D-EE56-4490-898A-7853A97C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374-84FF-4016-8CFC-3EA7E98A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350-FDBF-402A-B648-30DC28FE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887-F1C6-4AE0-829F-FEC3057C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4B7-28FF-4135-B4B8-9C8D1F9E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767B1-5371-4CA4-85E4-BFE56D4D496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527A6-18EF-455A-87D1-ED2EE3B098F4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unti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soft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allewal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2120" y="373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5257800"/>
            <a:ext cx="6400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87480" y="685800"/>
            <a:ext cx="7181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in Mother Russi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286000"/>
            <a:ext cx="47451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35100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371600"/>
            <a:ext cx="82296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6" name="unti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0672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5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 because of the air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457200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685800" y="4572000"/>
            <a:ext cx="3429000" cy="1809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057400" y="-228600"/>
            <a:ext cx="4857840" cy="94284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7" name="soft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5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7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nged to democracy which was a hard transition because many things were new to the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4" name="wallewa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15T15:48:32Z</dcterms:modified>
  <cp:revision>12</cp:revision>
  <dc:subject/>
  <dc:title>Present Day Russia</dc:title>
</cp:coreProperties>
</file>